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1E75-E2AA-4BDA-94E6-CC302CE01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1C73-D6DB-4E61-B21C-DDA8B0334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7DCB-5DC0-4EB2-8ACF-60C087AC7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0689-7B8F-4DD6-B284-C241D4966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4670-ADBC-4CAF-B901-B1C9F6741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AC39-A2F4-4AE0-9FA1-4E2C2A6CB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5738-248A-4F7F-92D9-0E1061563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660E-1903-4FC0-9388-786035107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114C-39DD-4B55-AF6E-D621F62FA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F980-57C5-4492-9E49-CFA488C73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367F-02A1-4084-9BCD-3EBD449FF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C832-6EC3-4224-91C0-D467A5171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3EF27-DC95-4A72-883D-BEDE3861781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17607cca5970t"/>
          <p:cNvPicPr/>
          <p:nvPr/>
        </p:nvPicPr>
        <p:blipFill>
          <a:blip r:embed="rId1"/>
          <a:stretch/>
        </p:blipFill>
        <p:spPr>
          <a:xfrm>
            <a:off x="0" y="-171360"/>
            <a:ext cx="9448920" cy="75391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1. Как вы думаете, почему химические волокна получили такое название?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2. Почему возникла необходимость в получении химических волокон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6" descr="1402264575-oboi-1920h1080"/>
          <p:cNvPicPr/>
          <p:nvPr/>
        </p:nvPicPr>
        <p:blipFill>
          <a:blip r:embed="rId1"/>
          <a:stretch/>
        </p:blipFill>
        <p:spPr>
          <a:xfrm>
            <a:off x="-812880" y="-304920"/>
            <a:ext cx="1076508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4360" y="1374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ель нашего похо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547640" y="2689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Дать представление о видах химических волоко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Раскрыть классификацию химических волокон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Познакомится  с технологией производства искусственных волоко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Научится определять вид волокна по внешним признак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914400" y="7430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5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cc"/>
                </a:solidFill>
                <a:latin typeface="Arial"/>
              </a:rPr>
              <a:t> </a:t>
            </a:r>
            <a:br>
              <a:rPr sz="4000"/>
            </a:br>
            <a:r>
              <a:rPr b="0" lang="ru-RU" sz="4000" spc="-1" strike="noStrike">
                <a:solidFill>
                  <a:srgbClr val="3333cc"/>
                </a:solidFill>
                <a:latin typeface="Arial"/>
              </a:rPr>
              <a:t>тема урока </a:t>
            </a:r>
            <a:r>
              <a:rPr b="1" lang="ru-RU" sz="4000" spc="-1" strike="noStrike">
                <a:solidFill>
                  <a:srgbClr val="3333cc"/>
                </a:solidFill>
                <a:latin typeface="Arial"/>
              </a:rPr>
              <a:t>«Виды и свойства химических волокон»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72880" y="0"/>
            <a:ext cx="8353440" cy="866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лассификация химических волок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-11160" y="1049400"/>
            <a:ext cx="887112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7" descr="motto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800" y="246240"/>
            <a:ext cx="978516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водная таблица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 всем исследованным тканям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-4680" y="1390680"/>
          <a:ext cx="9753480" cy="6405480"/>
        </p:xfrm>
        <a:graphic>
          <a:graphicData uri="http://schemas.openxmlformats.org/drawingml/2006/table">
            <a:tbl>
              <a:tblPr/>
              <a:tblGrid>
                <a:gridCol w="474480"/>
                <a:gridCol w="2586240"/>
                <a:gridCol w="1577880"/>
                <a:gridCol w="152280"/>
                <a:gridCol w="1403640"/>
                <a:gridCol w="1779480"/>
                <a:gridCol w="1779480"/>
              </a:tblGrid>
              <a:tr h="700200">
                <a:tc row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9194d"/>
                          </a:solidFill>
                          <a:latin typeface="Arial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9194d"/>
                          </a:solidFill>
                          <a:latin typeface="Arial"/>
                        </a:rPr>
                        <a:t>Характерные признаки определения ткане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gridSpan="5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9194d"/>
                          </a:solidFill>
                          <a:latin typeface="Arial"/>
                        </a:rPr>
                        <a:t>Показатели признаков тканей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97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скоз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цетат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про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тро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860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лес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ки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тов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к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тов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99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ладкость поверхност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ладка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ладк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ладк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ероховат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92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ягкост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ягк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ягк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естк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ягк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93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минаемост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ль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ня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л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ня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00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ыпаемост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ьш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ьш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чень больш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л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062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чность в мокром состояни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л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ня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ьш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ьш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52" name="Rectangle 4"/>
          <p:cNvSpPr/>
          <p:nvPr/>
        </p:nvSpPr>
        <p:spPr>
          <a:xfrm>
            <a:off x="11160" y="623520"/>
            <a:ext cx="147351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знаки определения искусственных и синтетических тканей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11280" y="274320"/>
            <a:ext cx="807552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ефлекс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"/>
          <p:cNvSpPr/>
          <p:nvPr/>
        </p:nvSpPr>
        <p:spPr>
          <a:xfrm>
            <a:off x="900000" y="1197000"/>
            <a:ext cx="77868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чему в гардеробе современного человека очень трудно найти вещь, изготовленную из натурального волокн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4"/>
          <p:cNvSpPr/>
          <p:nvPr/>
        </p:nvSpPr>
        <p:spPr>
          <a:xfrm>
            <a:off x="539640" y="6086520"/>
            <a:ext cx="18432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kartinkijan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омашнее задани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1"/>
          <p:cNvSpPr/>
          <p:nvPr/>
        </p:nvSpPr>
        <p:spPr>
          <a:xfrm>
            <a:off x="539640" y="2276640"/>
            <a:ext cx="81583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рисовать эскиз модели швейного изделия из химических тканей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11T14:50:12Z</dcterms:created>
  <dc:creator>Пользователь</dc:creator>
  <dc:description/>
  <dc:language>en-US</dc:language>
  <cp:lastModifiedBy>Пользователь</cp:lastModifiedBy>
  <dcterms:modified xsi:type="dcterms:W3CDTF">2018-09-28T07:15:26Z</dcterms:modified>
  <cp:revision>6</cp:revision>
  <dc:subject/>
  <dc:title>Слайд 1</dc:title>
</cp:coreProperties>
</file>